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91884"/>
        <c:axId val="8409717"/>
      </c:barChart>
      <c:catAx>
        <c:axId val="38191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9717"/>
        <c:crosses val="autoZero"/>
        <c:auto val="1"/>
        <c:lblAlgn val="ctr"/>
        <c:lblOffset val="100"/>
        <c:noMultiLvlLbl val="0"/>
      </c:catAx>
      <c:valAx>
        <c:axId val="8409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91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74B-B1E7-4061-9A33-9C146BC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EEA-2E6A-4C3B-8CF2-9887C68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70A-66AB-4133-968B-09A4B4F0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4BF-EDD5-496C-A997-53874117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5F8-88B3-4946-AFBA-6631B007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1CA-94B8-4B2C-99BA-247D670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550-694D-4CA8-885E-6CE5E78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3CD-2BA7-426C-BD6F-7A22A15F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4EB-8053-4509-B6D1-82C6381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02D-1362-43FE-80E2-D679A50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CD0-ED0C-4684-881B-D5AD462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55E-6BBF-44A6-AF36-8ADCE35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8A4F6-EAE8-4690-9646-EB35DA073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