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360861"/>
        <c:axId val="98055876"/>
      </c:barChart>
      <c:catAx>
        <c:axId val="593608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055876"/>
        <c:crosses val="autoZero"/>
        <c:auto val="1"/>
        <c:lblAlgn val="ctr"/>
        <c:lblOffset val="100"/>
        <c:noMultiLvlLbl val="0"/>
      </c:catAx>
      <c:valAx>
        <c:axId val="9805587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3608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239B-1C32-4098-AD68-AA485EA27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47B1-2892-4D07-B0AE-553A84A70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29AD-2AFD-410B-BCF5-89AD889CB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627F-BDF2-4482-A83F-CB168E09D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1EE5-64C1-4AA3-82DD-FD2148666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38B9-FBDE-4CE6-998D-92047A420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8E4B-B011-4E78-84A1-477C6F74C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D4E4-08CA-4140-A41D-D772C2902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EFB6-46B4-4FED-867F-9E409F6CD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135B-3B19-451D-B7F7-0ED8EE325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8D41-0894-4438-B972-F4B78559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2AA6-7EDA-433F-A64B-FB35174F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4BDE65-57EC-4983-8CD0-9E6744B90EB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